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C811-18C9-4924-8A35-1BCD123A6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12DE-5DEC-46EC-AFE8-BB6B9D844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rricane Research System (HRS) is a  modeling system adopted from HWRF/WRF-NMM to address issues related to intensity change predictions that the operational system may not be able to address at this time, given the computational resour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F4A0-B867-42B3-A5FA-69B0B3F1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89E-89F9-4412-A18C-71182416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8056-D8FB-430A-BBF3-1030EFAC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BAA-0B06-4918-A74E-ABC6DCA8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91E-0D98-4740-BA2C-B7D51A04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18A-C899-4DD9-9E09-008C15C0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2B28-02AA-4C63-A8B0-BAFAD1CB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3FA-A03C-4374-9142-E1044ABC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BB14-528B-4F75-9351-067BCA09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32F2-92CC-47B2-8988-C02305FD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B1A-B224-4475-AD90-0F093DE2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B018-AA5A-4054-AB12-C590E6FE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1422-49BF-42F6-AADA-48625A882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WRF &amp; HWRFX updat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Management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pal (HRD/AOML) &amp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jay Tallapragada (EMC/NCE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52280" y="380880"/>
            <a:ext cx="2286000" cy="5029200"/>
          </a:xfrm>
          <a:prstGeom prst="rect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743200" y="380880"/>
            <a:ext cx="3429000" cy="5029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400800" y="457200"/>
            <a:ext cx="2209680" cy="5029200"/>
          </a:xfrm>
          <a:prstGeom prst="rect">
            <a:avLst/>
          </a:prstGeom>
          <a:solidFill>
            <a:srgbClr val="99cc00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457200" y="609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ata Acquisition &amp;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3124080" y="6858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NOAAs H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6629400" y="1066680"/>
            <a:ext cx="17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Visualization &amp; Diagno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3724200" y="2514600"/>
            <a:ext cx="19144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F-NMM core with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ultiple moving n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13"/>
          <p:cNvSpPr/>
          <p:nvPr/>
        </p:nvSpPr>
        <p:spPr>
          <a:xfrm>
            <a:off x="3027240" y="1447920"/>
            <a:ext cx="858960" cy="53316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MM Phys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3962520" y="1447920"/>
            <a:ext cx="1066680" cy="53316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FDL/ GFS Phys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15"/>
          <p:cNvSpPr/>
          <p:nvPr/>
        </p:nvSpPr>
        <p:spPr>
          <a:xfrm>
            <a:off x="5105520" y="1447920"/>
            <a:ext cx="914400" cy="533160"/>
          </a:xfrm>
          <a:prstGeom prst="ellipse">
            <a:avLst/>
          </a:prstGeom>
          <a:solidFill>
            <a:srgbClr val="ccf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CAR Phys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ounded Rectangle 16"/>
          <p:cNvSpPr/>
          <p:nvPr/>
        </p:nvSpPr>
        <p:spPr>
          <a:xfrm>
            <a:off x="5257800" y="419112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ounded Rectangle 18"/>
          <p:cNvSpPr/>
          <p:nvPr/>
        </p:nvSpPr>
        <p:spPr>
          <a:xfrm>
            <a:off x="2895480" y="419112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KF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ounded Rectangle 19"/>
          <p:cNvSpPr/>
          <p:nvPr/>
        </p:nvSpPr>
        <p:spPr>
          <a:xfrm>
            <a:off x="5181480" y="487692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P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ounded Rectangle 20"/>
          <p:cNvSpPr/>
          <p:nvPr/>
        </p:nvSpPr>
        <p:spPr>
          <a:xfrm>
            <a:off x="3809880" y="4191120"/>
            <a:ext cx="123984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ortex Initialization &amp; Assimilation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22"/>
          <p:cNvSpPr/>
          <p:nvPr/>
        </p:nvSpPr>
        <p:spPr>
          <a:xfrm>
            <a:off x="3429000" y="2209680"/>
            <a:ext cx="230832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32"/>
          <p:cNvSpPr/>
          <p:nvPr/>
        </p:nvSpPr>
        <p:spPr>
          <a:xfrm>
            <a:off x="3429000" y="1981080"/>
            <a:ext cx="0" cy="228600"/>
          </a:xfrm>
          <a:prstGeom prst="line">
            <a:avLst/>
          </a:prstGeom>
          <a:ln w="9360">
            <a:solidFill>
              <a:srgbClr val="b6dcd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33"/>
          <p:cNvSpPr/>
          <p:nvPr/>
        </p:nvSpPr>
        <p:spPr>
          <a:xfrm>
            <a:off x="4495680" y="1981080"/>
            <a:ext cx="0" cy="533520"/>
          </a:xfrm>
          <a:prstGeom prst="line">
            <a:avLst/>
          </a:prstGeom>
          <a:ln w="9360">
            <a:solidFill>
              <a:srgbClr val="b6dcd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34"/>
          <p:cNvSpPr/>
          <p:nvPr/>
        </p:nvSpPr>
        <p:spPr>
          <a:xfrm>
            <a:off x="5715000" y="1981080"/>
            <a:ext cx="0" cy="228600"/>
          </a:xfrm>
          <a:prstGeom prst="line">
            <a:avLst/>
          </a:prstGeom>
          <a:ln w="9360">
            <a:solidFill>
              <a:srgbClr val="b6dcd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traight Connector 45"/>
          <p:cNvSpPr/>
          <p:nvPr/>
        </p:nvSpPr>
        <p:spPr>
          <a:xfrm flipV="1">
            <a:off x="5562720" y="3428640"/>
            <a:ext cx="0" cy="762120"/>
          </a:xfrm>
          <a:prstGeom prst="line">
            <a:avLst/>
          </a:prstGeom>
          <a:ln w="936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Shape 49"/>
          <p:cNvCxnSpPr/>
          <p:nvPr/>
        </p:nvCxnSpPr>
        <p:spPr>
          <a:xfrm flipH="1" flipV="1" rot="5400000">
            <a:off x="3409560" y="3562560"/>
            <a:ext cx="381960" cy="875160"/>
          </a:xfrm>
          <a:prstGeom prst="bentConnector2">
            <a:avLst/>
          </a:prstGeom>
          <a:ln w="9360">
            <a:solidFill>
              <a:srgbClr val="b6dcdf"/>
            </a:solidFill>
            <a:miter/>
          </a:ln>
        </p:spPr>
      </p:cxnSp>
      <p:sp>
        <p:nvSpPr>
          <p:cNvPr id="70" name="Straight Connector 51"/>
          <p:cNvSpPr/>
          <p:nvPr/>
        </p:nvSpPr>
        <p:spPr>
          <a:xfrm flipV="1">
            <a:off x="4037040" y="3428640"/>
            <a:ext cx="1440" cy="382680"/>
          </a:xfrm>
          <a:prstGeom prst="line">
            <a:avLst/>
          </a:prstGeom>
          <a:ln w="9360">
            <a:solidFill>
              <a:srgbClr val="b6dcd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54"/>
          <p:cNvSpPr/>
          <p:nvPr/>
        </p:nvSpPr>
        <p:spPr>
          <a:xfrm>
            <a:off x="6553080" y="2209680"/>
            <a:ext cx="1981440" cy="1143000"/>
          </a:xfrm>
          <a:prstGeom prst="ellipse">
            <a:avLst/>
          </a:prstGeom>
          <a:solidFill>
            <a:srgbClr val="5bb17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lobal Hurricane Visualization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55"/>
          <p:cNvSpPr/>
          <p:nvPr/>
        </p:nvSpPr>
        <p:spPr>
          <a:xfrm>
            <a:off x="6629400" y="3809880"/>
            <a:ext cx="1828800" cy="1447920"/>
          </a:xfrm>
          <a:prstGeom prst="ellipse">
            <a:avLst/>
          </a:prstGeom>
          <a:solidFill>
            <a:srgbClr val="63a96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st-Process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urricane Diagnostic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56"/>
          <p:cNvSpPr/>
          <p:nvPr/>
        </p:nvSpPr>
        <p:spPr>
          <a:xfrm>
            <a:off x="523800" y="1523880"/>
            <a:ext cx="1685880" cy="121932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utomatic Data acquisition from NC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57"/>
          <p:cNvSpPr/>
          <p:nvPr/>
        </p:nvSpPr>
        <p:spPr>
          <a:xfrm>
            <a:off x="520560" y="2895480"/>
            <a:ext cx="1600200" cy="106704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58"/>
          <p:cNvSpPr/>
          <p:nvPr/>
        </p:nvSpPr>
        <p:spPr>
          <a:xfrm>
            <a:off x="520560" y="4191120"/>
            <a:ext cx="1765440" cy="10666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ic Model Opera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ight Arrow 59"/>
          <p:cNvSpPr/>
          <p:nvPr/>
        </p:nvSpPr>
        <p:spPr>
          <a:xfrm>
            <a:off x="2438280" y="2362320"/>
            <a:ext cx="304920" cy="182520"/>
          </a:xfrm>
          <a:prstGeom prst="rightArrow">
            <a:avLst>
              <a:gd name="adj1" fmla="val 50000"/>
              <a:gd name="adj2" fmla="val 50033"/>
            </a:avLst>
          </a:prstGeom>
          <a:solidFill>
            <a:srgbClr val="00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ight Arrow 60"/>
          <p:cNvSpPr/>
          <p:nvPr/>
        </p:nvSpPr>
        <p:spPr>
          <a:xfrm>
            <a:off x="6172200" y="2362320"/>
            <a:ext cx="264960" cy="1825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00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2"/>
          <p:cNvSpPr/>
          <p:nvPr/>
        </p:nvSpPr>
        <p:spPr>
          <a:xfrm>
            <a:off x="4495680" y="3657600"/>
            <a:ext cx="106704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33"/>
          <p:cNvSpPr/>
          <p:nvPr/>
        </p:nvSpPr>
        <p:spPr>
          <a:xfrm>
            <a:off x="2819520" y="2666880"/>
            <a:ext cx="76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Model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3581280" y="2819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5"/>
          <p:cNvSpPr/>
          <p:nvPr/>
        </p:nvSpPr>
        <p:spPr>
          <a:xfrm flipH="1">
            <a:off x="35812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228600" y="55627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urricane Research System (HRS) is the experimental version of the HWRF system (HWRF-X) specifically adopted and developed to study the intensity change problem at the highest model grid resolution of about 1 k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3657600"/>
            <a:ext cx="0" cy="533520"/>
          </a:xfrm>
          <a:prstGeom prst="line">
            <a:avLst/>
          </a:prstGeom>
          <a:ln w="3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638680" y="4647960"/>
            <a:ext cx="0" cy="228600"/>
          </a:xfrm>
          <a:prstGeom prst="line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ounded Rectangle 18"/>
          <p:cNvSpPr/>
          <p:nvPr/>
        </p:nvSpPr>
        <p:spPr>
          <a:xfrm>
            <a:off x="5181480" y="6324480"/>
            <a:ext cx="3353040" cy="3812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development under HF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14440" y="30492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WRF-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419720" y="914400"/>
            <a:ext cx="4419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FV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RH testing at 9: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Not Bit repro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No ocean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o wave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Crude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KF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pgraded adaptive grid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adaptive nest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rier Micro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S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FDL SURFACE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AH L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S (dx &gt; 3 k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914400"/>
            <a:ext cx="4191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WRFV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al version at 27: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repro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couple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rtex Initialization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implified grid adap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One adaptive n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rier Micro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S P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DL SURFACE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DL s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S (dx &gt; 3 k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380880"/>
            <a:ext cx="3352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al HWR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HWRF Code Management for HF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4267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Single baseline code for HFIP that sup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Research HW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2009 Ops. HW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Initial WRF code base is WRF 3.x NMM dyna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Incorporate operational 2008 HWRF physi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Include upgrades from 2009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Incorporate modifications to surface physics including sea sp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Relevant physics changes to support high-resolution (PBL, surface physics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52880" y="914400"/>
            <a:ext cx="4191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Supports operational vortex initialization procedures (relocation, vortex assimilation and cycling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Capable of coupling with POM, HYCOM and Wavewatch II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Supports multiple nesting (minimum of three computational domain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Restart capability for any time interv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Coordinated effort between EMC, AOML, ESRL and DT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Planned R2O and O2R transf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6324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</a:rPr>
              <a:t>Details being worked out to by EMC and AO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2:08:26Z</dcterms:created>
  <dc:creator> gopal</dc:creator>
  <dc:description/>
  <dc:language>en-US</dc:language>
  <cp:lastModifiedBy> gopal</cp:lastModifiedBy>
  <dcterms:modified xsi:type="dcterms:W3CDTF">2009-04-16T12:14:02Z</dcterms:modified>
  <cp:revision>16</cp:revision>
  <dc:subject/>
  <dc:title>PowerPoint Presentation</dc:title>
</cp:coreProperties>
</file>